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5D5-C818-4EBD-B004-586CB2C5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C7C-5B01-431E-AA00-E081FB8E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293-6889-4521-ACAD-E5587A82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907-F18F-4E1C-83B6-55609E8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C7C-B6CF-4E1A-BF1D-D409F37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7AA-77A0-4C3A-B24E-CD8DCDD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4CE-6882-45B8-A721-283BB66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F49-2C74-4432-986C-C2E1761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BB8-AA5C-4A78-BE12-20C14589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127-6882-49F1-BE80-33B8A89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2A6-513C-4A0E-80AD-9980788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B0F-4E63-447A-9EDD-1DF6C87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DE86-7F72-4449-80F7-3D2754E2D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comic"/>
              </a:rPr>
              <a:t>Canção do exílio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Onde canta o Sabiá; </a:t>
            </a:r>
            <a:br>
              <a:rPr sz="4400"/>
            </a:b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As aves, que aqui gorjeiam, </a:t>
            </a:r>
            <a:br>
              <a:rPr sz="4400"/>
            </a:br>
            <a:r>
              <a:rPr b="0" lang="en-US" sz="4000" spc="-1" strike="noStrike">
                <a:solidFill>
                  <a:srgbClr val="e8184a"/>
                </a:solidFill>
                <a:latin typeface="Arial"/>
                <a:ea typeface="Times New Roman"/>
              </a:rPr>
              <a:t>Não gorjeiam como lá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2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151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o céu tem mais estrela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as várzeas têm mais flore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os bosques têm mais vida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a vida mais amore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  cismar, sozinho, à noite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is prazer eu encontro lá;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de canta o Sabiá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Não permita Deus que eu morra,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e eu volte para lá;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e disfrute os primores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Que não encontro por cá;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'inda aviste as palmeiras,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Onde canta o Sabiá. 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8651320" cy="19050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inha terra tem primores,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Que tais não encontro eu cá;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Em cismar –sozinho, à noite–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ais prazer eu encontro lá;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Onde canta o Sabiá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lides elaborado pela Professora: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MARIA APARECIDA BERETTA.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Orientação:Professora Marta Roque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CBIV (Curso Básico de Informática Vipi)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Ivinhema – MS - Brasil 29/05/200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2:34:30Z</dcterms:created>
  <dc:creator>Escola Filinto</dc:creator>
  <dc:description/>
  <dc:language>en-US</dc:language>
  <cp:lastModifiedBy>Escola</cp:lastModifiedBy>
  <dcterms:modified xsi:type="dcterms:W3CDTF">2009-07-30T18:46:40Z</dcterms:modified>
  <cp:revision>6</cp:revision>
  <dc:subject/>
  <dc:title>Canção do exílio </dc:title>
</cp:coreProperties>
</file>